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00A-10B6-41F5-96BC-5DAD27A1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B65-CF57-49AB-8623-B37CD952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B3E-5A8A-4E20-8831-AAF27AFE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D4E-24C2-42D0-A4CA-FD978881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7810-1D15-4756-9F73-AC5113C4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1CE9-8F9C-4A15-BF3F-2C9F143B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1918-CB53-4CCD-9FA2-EF97A5C7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83BB-371B-451B-B2F0-2C3BDB65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F2A1-EE31-4D82-AC2F-80D97288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82FD-AAEC-40F3-9914-F25DAF60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C848-FB75-4A23-98B4-8CBBA63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ABA-6D04-4184-AAA1-1A526403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C8C7-6A76-4EE0-99CB-0A275BDB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1191-65F6-4F56-B069-1DAE1E7B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10A1-EE8F-4B39-92DE-CAF6A2B3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4F09-DF6D-4DEC-8612-A406DD38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0B43-5C76-4E8A-9BC3-73333804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1F7-5D3D-4401-9ADB-FFD9900B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40B-4BE1-47B3-B132-4D543F96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BA5-3B57-4ED9-A4CF-D65F77C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538-3297-45FB-AD37-9758573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763-CF8B-43AD-A75D-ED17E681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93B-A944-471C-8183-D29B853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1DD-D3EE-45F1-87DB-E4BABCC0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1CD2-ECC1-49A8-B962-B3747D07F2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AA60-EEC0-4730-8F30-0CF4EA3CF4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Функции семь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ЕМЬ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93320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мья — организованная социальная группа, члены которой связаны общностью быта, взаимной моральной ответственностью и социальной необходимостью, которая обусловлена потребностью общества в физическом и духовном самовоспроизводств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31179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 основным функциям семьи можно отнести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епродуктивная функц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иологическое воспроизводство и сохранение потомства, продолжение р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Картинка 18 из 207"/>
          <p:cNvPicPr/>
          <p:nvPr/>
        </p:nvPicPr>
        <p:blipFill>
          <a:blip r:embed="rId1"/>
          <a:stretch/>
        </p:blipFill>
        <p:spPr>
          <a:xfrm>
            <a:off x="4500720" y="2492280"/>
            <a:ext cx="43686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Функция социализ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42465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семье осуществляется первичная социализация индивида, закладываются основы его формирования как личности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Картинка 12 из 207"/>
          <p:cNvPicPr/>
          <p:nvPr/>
        </p:nvPicPr>
        <p:blipFill>
          <a:blip r:embed="rId1"/>
          <a:stretch/>
        </p:blipFill>
        <p:spPr>
          <a:xfrm>
            <a:off x="4932360" y="2205000"/>
            <a:ext cx="3924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Функция эмоционального удовлетвор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076640"/>
            <a:ext cx="8289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довлетворение членами семьи потребностей в симпатии, уважении, признании, эмоциональной поддержке, психологической защите. Данная функция обеспечивает эмоциональную стабилизацию членов общества, активн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действует сохранению их психического здоровья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02080" y="2073240"/>
            <a:ext cx="2900520" cy="2109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90 из 207"/>
          <p:cNvPicPr/>
          <p:nvPr/>
        </p:nvPicPr>
        <p:blipFill>
          <a:blip r:embed="rId2"/>
          <a:stretch/>
        </p:blipFill>
        <p:spPr>
          <a:xfrm>
            <a:off x="1143000" y="2006640"/>
            <a:ext cx="32338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татусная  функц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классовых обществах принадлежность семьи к определенному социальному слою предоставляет ребенку возможности и вознаграждения, характерные для этого слоя. Классовый статус может изменяться благодаря усилиям человека и благоприятным обстоятельств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Картинка 5 из 37356"/>
          <p:cNvPicPr/>
          <p:nvPr/>
        </p:nvPicPr>
        <p:blipFill>
          <a:blip r:embed="rId1"/>
          <a:stretch/>
        </p:blipFill>
        <p:spPr>
          <a:xfrm>
            <a:off x="4908600" y="2655720"/>
            <a:ext cx="370188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щитная  функц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5084280"/>
            <a:ext cx="83534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 всех обществах институт семьи осуществляет в разной степени физическую, экономическую и психологическую защи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Картинка 11 из 207"/>
          <p:cNvPicPr/>
          <p:nvPr/>
        </p:nvPicPr>
        <p:blipFill>
          <a:blip r:embed="rId1"/>
          <a:stretch/>
        </p:blipFill>
        <p:spPr>
          <a:xfrm>
            <a:off x="5435640" y="1413000"/>
            <a:ext cx="2206440" cy="3341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артинка 52 из 207"/>
          <p:cNvPicPr/>
          <p:nvPr/>
        </p:nvPicPr>
        <p:blipFill>
          <a:blip r:embed="rId2"/>
          <a:stretch/>
        </p:blipFill>
        <p:spPr>
          <a:xfrm>
            <a:off x="1332000" y="1484280"/>
            <a:ext cx="2313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705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кономическая функц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2060280"/>
            <a:ext cx="70725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дение членами семьи общего хозяйства способствует формированию крепких экономических связей между н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Картинка 30 из 2411"/>
          <p:cNvPicPr/>
          <p:nvPr/>
        </p:nvPicPr>
        <p:blipFill>
          <a:blip r:embed="rId1"/>
          <a:stretch/>
        </p:blipFill>
        <p:spPr>
          <a:xfrm>
            <a:off x="1692360" y="3429000"/>
            <a:ext cx="55450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6:29:04Z</dcterms:created>
  <dc:creator>user</dc:creator>
  <dc:description/>
  <dc:language>en-US</dc:language>
  <cp:lastModifiedBy>Vlad</cp:lastModifiedBy>
  <dcterms:modified xsi:type="dcterms:W3CDTF">2012-04-15T11:19:20Z</dcterms:modified>
  <cp:revision>7</cp:revision>
  <dc:subject/>
  <dc:title>Функции семьи</dc:title>
</cp:coreProperties>
</file>